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AC7B2FEC-6CFB-4EB6-B483-163DE669F9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894600" y="752760"/>
            <a:ext cx="4953240" cy="37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905040" y="749160"/>
            <a:ext cx="49370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7467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IT Kolledzh/TTÜ 2005        T.Tammet     IT sissejuhatus loeng 10      lk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5C3D060E-1D5E-4252-B2F5-80D51D054C94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6248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2AB20B-3D59-4FD3-BF9C-2FD085207F64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nn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ibm.com/" TargetMode="External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rmaatik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381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384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388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392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396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400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404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408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412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416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1124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peab saatma 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(ilmselt!) masina X kasu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410080" y="2053800"/>
            <a:ext cx="381240" cy="2350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kaduma min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450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453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457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461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465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469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473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477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481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485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81124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219320"/>
            <a:ext cx="220968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e läheb masinani E, a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E crashib (läheb katki, programm läheb segamini, vool läheb ära vm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rgu alusprotokoll: IP ise ei kontrolli, kas te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õudis pära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572000" y="2892240"/>
            <a:ext cx="533520" cy="539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1500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 crash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733920" y="3425400"/>
            <a:ext cx="685800" cy="82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520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523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527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531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535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539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543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547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551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555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81124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04920" y="1219320"/>
            <a:ext cx="2344680" cy="65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 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lõhub pika  teksti kaheks paketik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h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 E-&gt;X, a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E-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ühendus rikk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leiab, et saab saata teate tei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X-ile 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 L kaud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4572000" y="2892240"/>
            <a:ext cx="533520" cy="539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733920" y="3425400"/>
            <a:ext cx="685800" cy="82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5711400" y="2359080"/>
            <a:ext cx="1454040" cy="387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64160" y="2631960"/>
            <a:ext cx="15836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b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592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595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599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603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607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611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615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619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623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627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81124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04920" y="1219320"/>
            <a:ext cx="2209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ki te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L, 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nab selle masinasse 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eksti 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ikusid eri teid pid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572000" y="2892240"/>
            <a:ext cx="533520" cy="539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3733920" y="3425400"/>
            <a:ext cx="685800" cy="82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 flipV="1">
            <a:off x="5711400" y="2359080"/>
            <a:ext cx="1454040" cy="387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360560" y="2631960"/>
            <a:ext cx="1946160" cy="151308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nu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ga p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hullu .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6321600" y="2206440"/>
            <a:ext cx="234720" cy="13014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61760" y="-131760"/>
            <a:ext cx="814068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666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669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673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677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681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685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689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693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697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701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81124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1219320"/>
            <a:ext cx="22096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saad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uue teat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 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masinale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 esime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bi masina 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572000" y="2892240"/>
            <a:ext cx="533520" cy="539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733920" y="3425400"/>
            <a:ext cx="685800" cy="82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5711400" y="2359080"/>
            <a:ext cx="1454040" cy="387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363800" y="2631960"/>
            <a:ext cx="15242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ikk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6321600" y="2206440"/>
            <a:ext cx="234720" cy="13014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740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743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747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751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755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759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763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767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771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775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81124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04920" y="1219320"/>
            <a:ext cx="220968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otseühendus kord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E suunab os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otse masinale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ne osa võib seega jõuda kohale enne esimes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4572000" y="2892240"/>
            <a:ext cx="533520" cy="539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733920" y="3425400"/>
            <a:ext cx="685800" cy="82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 flipV="1">
            <a:off x="5711400" y="2359080"/>
            <a:ext cx="1454040" cy="387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360200" y="2631960"/>
            <a:ext cx="1631520" cy="6260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äheb kord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5334120" y="2054160"/>
            <a:ext cx="457200" cy="3110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kkulep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t kuidas infot saata ja sellest aru saada tuleb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lubab saata ainult väikeseid tekstijupp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tekstijupi ette pannakse lisainfo (päis ehk header), mis ütleb, 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hu see tekst siis saata tuleb (IP aadres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st  tekst tuli (saatja IP aadres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 lisainfot ka v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81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1143000" y="3809880"/>
            <a:ext cx="6019920" cy="685800"/>
            <a:chOff x="1143000" y="3809880"/>
            <a:chExt cx="6019920" cy="685800"/>
          </a:xfrm>
        </p:grpSpPr>
        <p:sp>
          <p:nvSpPr>
            <p:cNvPr id="816" name=""/>
            <p:cNvSpPr/>
            <p:nvPr/>
          </p:nvSpPr>
          <p:spPr>
            <a:xfrm>
              <a:off x="1143000" y="3809880"/>
              <a:ext cx="601992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43000" y="3809880"/>
              <a:ext cx="601992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äis                     Sisutekst (dat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2666880" y="3809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P (Internet Protoco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CP/IP pere tööhobu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FC 79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aranteerib marsruutimise, st minemise õiges suun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tteusaldusväärne - ei taga kohalejõudm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sisendpuhver on täis, siis ignoreerib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loo kanali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ga datagrammi käsitletakse sõltumatul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malt (pole vaja pähe jätta!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82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096240" cy="458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järgmised protokollid: UDP ja TCP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põhi-protokolli, mis kasutavad IP-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UDP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(user datagram protocol). Ei kontrollita, kas info jõudis pärale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CP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(transfer control protocol). Toimub kontroll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mbalgi puhul (TCP näitel):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830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838080" y="2895480"/>
            <a:ext cx="6019920" cy="685800"/>
            <a:chOff x="838080" y="2895480"/>
            <a:chExt cx="6019920" cy="685800"/>
          </a:xfrm>
        </p:grpSpPr>
        <p:sp>
          <p:nvSpPr>
            <p:cNvPr id="833" name=""/>
            <p:cNvSpPr/>
            <p:nvPr/>
          </p:nvSpPr>
          <p:spPr>
            <a:xfrm>
              <a:off x="838080" y="2895480"/>
              <a:ext cx="601992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8080" y="2895480"/>
              <a:ext cx="601992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 Päis                     Sisutekst (dat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2133720" y="2895480"/>
            <a:ext cx="144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209680" y="4876920"/>
            <a:ext cx="4648320" cy="761760"/>
            <a:chOff x="2209680" y="4876920"/>
            <a:chExt cx="4648320" cy="761760"/>
          </a:xfrm>
        </p:grpSpPr>
        <p:sp>
          <p:nvSpPr>
            <p:cNvPr id="837" name=""/>
            <p:cNvSpPr/>
            <p:nvPr/>
          </p:nvSpPr>
          <p:spPr>
            <a:xfrm>
              <a:off x="2209680" y="4876920"/>
              <a:ext cx="4648320" cy="76176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09680" y="4876920"/>
              <a:ext cx="4648320" cy="76176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 Päis            Vajalik  sisutek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3581280" y="4952880"/>
            <a:ext cx="1800" cy="6098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3372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85800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813760" y="3962520"/>
            <a:ext cx="415908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saldab omakorda päisega inf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16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Interneti funktsion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irülevaade võrgunduse funktsioneerimis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irülevaade interneti funktsioneerimis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asmehhanismi, IP funktsion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CP ja UDP: kaks täiendavat protokolli IP-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 kihilisest protokollindusest: ISO/OSI mud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ud sideprotokoll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NS funktsion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id brauseriga ja telnetig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95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UDP (User Datagram Protoco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 rakenduse väljund tekitab uue datagramm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taga usaldatav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atagrammi ehit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ähte- ja sihtport (kumbki kaks baiti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atagrammi pikkus (kaks baiti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summa (kaks baiti, pole kohustuslik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meosa (varieeruva pikkusega hulk baite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DP paketi maksimaalpikkus on seega 64 kilobait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trollsumma vea puhul unustatakse datagram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akendused: DNS, NFS, TFT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987480" y="3200400"/>
            <a:ext cx="387360" cy="762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CP(Transmission Control Protoco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hendusorienteeri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saldata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oo tüü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Jagab voo segmentide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tes käivitab taimeri ja ootab kinnitus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nnitab saadud segmend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summa päisest ja andmetes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rrastab segmentide järjestus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ustab dublikaad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ib voo mahtu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61840" y="13456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s elab korraga palju programme ja igaüks tahab saada/saata oma pakette. Millisele programmile konkreetne pakett saata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le antakse kasutamis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ummerdatud TCP või UDP port (need ei ole füüsilised pistikud!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e määravad: IP aadressid, pordid, protokol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838080" y="3429000"/>
            <a:ext cx="2667240" cy="2743200"/>
            <a:chOff x="838080" y="3429000"/>
            <a:chExt cx="2667240" cy="2743200"/>
          </a:xfrm>
        </p:grpSpPr>
        <p:sp>
          <p:nvSpPr>
            <p:cNvPr id="851" name=""/>
            <p:cNvSpPr/>
            <p:nvPr/>
          </p:nvSpPr>
          <p:spPr>
            <a:xfrm>
              <a:off x="838080" y="3429000"/>
              <a:ext cx="2667240" cy="2743200"/>
            </a:xfrm>
            <a:custGeom>
              <a:avLst/>
              <a:gdLst>
                <a:gd name="textAreaLeft" fmla="*/ 360 w 2667240"/>
                <a:gd name="textAreaRight" fmla="*/ 2666880 w 2667240"/>
                <a:gd name="textAreaTop" fmla="*/ 360 h 2743200"/>
                <a:gd name="textAreaBottom" fmla="*/ 2742840 h 2743200"/>
              </a:gdLst>
              <a:ahLst/>
              <a:rect l="textAreaLeft" t="textAreaTop" r="textAreaRight" b="textAreaBottom"/>
              <a:pathLst>
                <a:path w="21600" h="22215">
                  <a:moveTo>
                    <a:pt x="12" y="0"/>
                  </a:moveTo>
                  <a:arcTo wR="12" hR="12" stAng="16200000" swAng="-5400000"/>
                  <a:lnTo>
                    <a:pt x="0" y="22203"/>
                  </a:lnTo>
                  <a:arcTo wR="12" hR="12" stAng="10800000" swAng="-5400000"/>
                  <a:lnTo>
                    <a:pt x="21588" y="22215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38080" y="3429000"/>
              <a:ext cx="2667240" cy="2743200"/>
            </a:xfrm>
            <a:custGeom>
              <a:avLst/>
              <a:gdLst>
                <a:gd name="textAreaLeft" fmla="*/ 360 w 2667240"/>
                <a:gd name="textAreaRight" fmla="*/ 2666880 w 2667240"/>
                <a:gd name="textAreaTop" fmla="*/ 360 h 2743200"/>
                <a:gd name="textAreaBottom" fmla="*/ 2742840 h 2743200"/>
              </a:gdLst>
              <a:ahLst/>
              <a:rect l="textAreaLeft" t="textAreaTop" r="textAreaRight" b="textAreaBottom"/>
              <a:pathLst>
                <a:path w="21600" h="22215">
                  <a:moveTo>
                    <a:pt x="12" y="0"/>
                  </a:moveTo>
                  <a:arcTo wR="12" hR="12" stAng="16200000" swAng="-5400000"/>
                  <a:lnTo>
                    <a:pt x="0" y="22203"/>
                  </a:lnTo>
                  <a:arcTo wR="12" hR="12" stAng="10800000" swAng="-5400000"/>
                  <a:lnTo>
                    <a:pt x="21588" y="22215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Masin o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IP aadressiga  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Programmid tem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www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ftp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tel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... jne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6477120" y="3276720"/>
            <a:ext cx="2361960" cy="2971800"/>
          </a:xfrm>
          <a:custGeom>
            <a:avLst/>
            <a:gdLst>
              <a:gd name="textAreaLeft" fmla="*/ 360 w 2361960"/>
              <a:gd name="textAreaRight" fmla="*/ 2361600 w 2361960"/>
              <a:gd name="textAreaTop" fmla="*/ 360 h 2971800"/>
              <a:gd name="textAreaBottom" fmla="*/ 2971440 h 2971800"/>
            </a:gdLst>
            <a:ahLst/>
            <a:rect l="textAreaLeft" t="textAreaTop" r="textAreaRight" b="textAreaBottom"/>
            <a:pathLst>
              <a:path w="21600" h="27176">
                <a:moveTo>
                  <a:pt x="14" y="0"/>
                </a:moveTo>
                <a:arcTo wR="14" hR="14" stAng="16200000" swAng="-5400000"/>
                <a:lnTo>
                  <a:pt x="0" y="27162"/>
                </a:lnTo>
                <a:arcTo wR="14" hR="14" stAng="10800000" swAng="-5400000"/>
                <a:lnTo>
                  <a:pt x="21586" y="27176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4191120" y="3505320"/>
            <a:ext cx="304560" cy="304560"/>
            <a:chOff x="4191120" y="3505320"/>
            <a:chExt cx="304560" cy="304560"/>
          </a:xfrm>
        </p:grpSpPr>
        <p:sp>
          <p:nvSpPr>
            <p:cNvPr id="855" name=""/>
            <p:cNvSpPr/>
            <p:nvPr/>
          </p:nvSpPr>
          <p:spPr>
            <a:xfrm>
              <a:off x="4191120" y="3505320"/>
              <a:ext cx="304560" cy="30456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35400" y="3549600"/>
              <a:ext cx="214200" cy="21420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4191120" y="4343400"/>
            <a:ext cx="304560" cy="380880"/>
            <a:chOff x="4191120" y="4343400"/>
            <a:chExt cx="304560" cy="380880"/>
          </a:xfrm>
        </p:grpSpPr>
        <p:sp>
          <p:nvSpPr>
            <p:cNvPr id="858" name=""/>
            <p:cNvSpPr/>
            <p:nvPr/>
          </p:nvSpPr>
          <p:spPr>
            <a:xfrm>
              <a:off x="4191120" y="4343400"/>
              <a:ext cx="304560" cy="3808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235400" y="4398840"/>
              <a:ext cx="214200" cy="268560"/>
            </a:xfrm>
            <a:custGeom>
              <a:avLst/>
              <a:gdLst>
                <a:gd name="textAreaLeft" fmla="*/ 360 w 214200"/>
                <a:gd name="textAreaRight" fmla="*/ 213840 w 214200"/>
                <a:gd name="textAreaTop" fmla="*/ 360 h 268560"/>
                <a:gd name="textAreaBottom" fmla="*/ 268200 h 268560"/>
              </a:gdLst>
              <a:ahLst/>
              <a:rect l="textAreaLeft" t="textAreaTop" r="textAreaRight" b="textAreaBottom"/>
              <a:pathLst>
                <a:path w="21600" h="27072">
                  <a:moveTo>
                    <a:pt x="161" y="0"/>
                  </a:moveTo>
                  <a:arcTo wR="161" hR="161" stAng="16200000" swAng="-5400000"/>
                  <a:lnTo>
                    <a:pt x="0" y="26911"/>
                  </a:lnTo>
                  <a:arcTo wR="161" hR="161" stAng="10800000" swAng="-5400000"/>
                  <a:lnTo>
                    <a:pt x="21439" y="27072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4191120" y="5791320"/>
            <a:ext cx="304560" cy="304560"/>
            <a:chOff x="4191120" y="5791320"/>
            <a:chExt cx="304560" cy="304560"/>
          </a:xfrm>
        </p:grpSpPr>
        <p:sp>
          <p:nvSpPr>
            <p:cNvPr id="861" name=""/>
            <p:cNvSpPr/>
            <p:nvPr/>
          </p:nvSpPr>
          <p:spPr>
            <a:xfrm>
              <a:off x="4191120" y="5791320"/>
              <a:ext cx="304560" cy="30456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35400" y="5835600"/>
              <a:ext cx="214200" cy="21420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5791320" y="3429000"/>
            <a:ext cx="304560" cy="304920"/>
            <a:chOff x="5791320" y="3429000"/>
            <a:chExt cx="304560" cy="304920"/>
          </a:xfrm>
        </p:grpSpPr>
        <p:sp>
          <p:nvSpPr>
            <p:cNvPr id="864" name=""/>
            <p:cNvSpPr/>
            <p:nvPr/>
          </p:nvSpPr>
          <p:spPr>
            <a:xfrm>
              <a:off x="5791320" y="3429000"/>
              <a:ext cx="304560" cy="3049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5600" y="3473280"/>
              <a:ext cx="214200" cy="216000"/>
            </a:xfrm>
            <a:custGeom>
              <a:avLst/>
              <a:gdLst>
                <a:gd name="textAreaLeft" fmla="*/ 360 w 214200"/>
                <a:gd name="textAreaRight" fmla="*/ 213840 w 214200"/>
                <a:gd name="textAreaTop" fmla="*/ 360 h 216000"/>
                <a:gd name="textAreaBottom" fmla="*/ 215640 h 216000"/>
              </a:gdLst>
              <a:ahLst/>
              <a:rect l="textAreaLeft" t="textAreaTop" r="textAreaRight" b="textAreaBottom"/>
              <a:pathLst>
                <a:path w="21600" h="21781">
                  <a:moveTo>
                    <a:pt x="161" y="0"/>
                  </a:moveTo>
                  <a:arcTo wR="161" hR="161" stAng="16200000" swAng="-5400000"/>
                  <a:lnTo>
                    <a:pt x="0" y="21620"/>
                  </a:lnTo>
                  <a:arcTo wR="161" hR="161" stAng="10800000" swAng="-5400000"/>
                  <a:lnTo>
                    <a:pt x="21439" y="21781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5715000" y="4267080"/>
            <a:ext cx="304920" cy="304920"/>
            <a:chOff x="5715000" y="4267080"/>
            <a:chExt cx="304920" cy="304920"/>
          </a:xfrm>
        </p:grpSpPr>
        <p:sp>
          <p:nvSpPr>
            <p:cNvPr id="867" name=""/>
            <p:cNvSpPr/>
            <p:nvPr/>
          </p:nvSpPr>
          <p:spPr>
            <a:xfrm>
              <a:off x="5715000" y="4267080"/>
              <a:ext cx="304920" cy="3049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59280" y="4311720"/>
              <a:ext cx="216000" cy="216000"/>
            </a:xfrm>
            <a:prstGeom prst="roundRect">
              <a:avLst>
                <a:gd name="adj" fmla="val 7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791320" y="5715000"/>
            <a:ext cx="304560" cy="304920"/>
            <a:chOff x="5791320" y="5715000"/>
            <a:chExt cx="304560" cy="304920"/>
          </a:xfrm>
        </p:grpSpPr>
        <p:sp>
          <p:nvSpPr>
            <p:cNvPr id="870" name=""/>
            <p:cNvSpPr/>
            <p:nvPr/>
          </p:nvSpPr>
          <p:spPr>
            <a:xfrm>
              <a:off x="5791320" y="5715000"/>
              <a:ext cx="304560" cy="3049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835600" y="5759280"/>
              <a:ext cx="214200" cy="216000"/>
            </a:xfrm>
            <a:custGeom>
              <a:avLst/>
              <a:gdLst>
                <a:gd name="textAreaLeft" fmla="*/ 360 w 214200"/>
                <a:gd name="textAreaRight" fmla="*/ 213840 w 214200"/>
                <a:gd name="textAreaTop" fmla="*/ 360 h 216000"/>
                <a:gd name="textAreaBottom" fmla="*/ 215640 h 216000"/>
              </a:gdLst>
              <a:ahLst/>
              <a:rect l="textAreaLeft" t="textAreaTop" r="textAreaRight" b="textAreaBottom"/>
              <a:pathLst>
                <a:path w="21600" h="21781">
                  <a:moveTo>
                    <a:pt x="161" y="0"/>
                  </a:moveTo>
                  <a:arcTo wR="161" hR="161" stAng="16200000" swAng="-5400000"/>
                  <a:lnTo>
                    <a:pt x="0" y="21620"/>
                  </a:lnTo>
                  <a:arcTo wR="161" hR="161" stAng="10800000" swAng="-5400000"/>
                  <a:lnTo>
                    <a:pt x="21439" y="21781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 flipH="1">
            <a:off x="3502080" y="3657600"/>
            <a:ext cx="691920" cy="7632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3425760" y="4572000"/>
            <a:ext cx="76824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flipV="1">
            <a:off x="3502080" y="5864040"/>
            <a:ext cx="691920" cy="82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095880" y="3581280"/>
            <a:ext cx="38124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019920" y="4419720"/>
            <a:ext cx="4572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095880" y="5867280"/>
            <a:ext cx="45720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2286000" y="3730680"/>
            <a:ext cx="1219320" cy="1225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2133720" y="4568400"/>
            <a:ext cx="1295280" cy="6159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1905120" y="4949640"/>
            <a:ext cx="1752480" cy="5396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120920" y="510552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644800" y="495288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4492440" y="3657600"/>
            <a:ext cx="1301400" cy="7621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 flipV="1">
            <a:off x="4416480" y="3730320"/>
            <a:ext cx="1225440" cy="61596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4568400" y="5867280"/>
            <a:ext cx="1149480" cy="763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512040" y="3389400"/>
            <a:ext cx="2449080" cy="2763360"/>
          </a:xfrm>
          <a:custGeom>
            <a:avLst/>
            <a:gdLst>
              <a:gd name="textAreaLeft" fmla="*/ 360 w 2449080"/>
              <a:gd name="textAreaRight" fmla="*/ 2448720 w 2449080"/>
              <a:gd name="textAreaTop" fmla="*/ 360 h 2763360"/>
              <a:gd name="textAreaBottom" fmla="*/ 2763000 h 2763360"/>
            </a:gdLst>
            <a:ahLst/>
            <a:rect l="textAreaLeft" t="textAreaTop" r="textAreaRight" b="textAreaBottom"/>
            <a:pathLst>
              <a:path w="21600" h="24371">
                <a:moveTo>
                  <a:pt x="15" y="0"/>
                </a:moveTo>
                <a:arcTo wR="15" hR="15" stAng="16200000" swAng="-5400000"/>
                <a:lnTo>
                  <a:pt x="0" y="24356"/>
                </a:lnTo>
                <a:arcTo wR="15" hR="15" stAng="10800000" swAng="-5400000"/>
                <a:lnTo>
                  <a:pt x="21585" y="24371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ga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te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 bra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tp k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jn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400800" y="5334120"/>
            <a:ext cx="152280" cy="380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477120" y="3581280"/>
            <a:ext cx="457200" cy="1905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477120" y="4419720"/>
            <a:ext cx="228600" cy="7617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ortide liigit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 - 1023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tuntud pordid, sh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1       FTP – TC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3       telnet – TC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17     UD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024 – 5000      klientprogrammide ajutised por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gt;5000                muud (mitte-üldtuntud) serve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lient - server mud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25480" y="1468080"/>
            <a:ext cx="7848720" cy="518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dine algorit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ootab mingil üldteada pordil ühenduskutse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t reserveerib dünaamilise pord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t saadab serverile ühenduskutse (koos oma pordinumbriga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vastab kliendile tema pordinumbr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ereeriv serv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võta vastu uut kutset enne eelneva töötlemis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ralleelne serv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ivitab iga kutse jaoks eraldi serveri ajutise pordinumbriga selle ühenduse jao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ga on mitme ajas lähestikuse kutse järel masinas käimas mitu “koopiat” ehk protsessi või threadi ühest serveris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jatele paistab, et need “koopiad” käivad korraga, tegelikult hoolitseb selle “kooskäimise simulatsiooni” eest opsüstee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SO - OSI mud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2979720" y="1676520"/>
          <a:ext cx="354492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9720" y="1676520"/>
                    <a:ext cx="354492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I mudeli kih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ides (interfac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ma süsteemi eri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htide suhtlusviis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mavah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tokoll (protocol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ri süsteemide samade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htide suhtlusviis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mavah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4435560" y="2354400"/>
          <a:ext cx="4216320" cy="30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35560" y="2354400"/>
                    <a:ext cx="4216320" cy="30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psel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2265480" y="1889280"/>
          <a:ext cx="4670280" cy="39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5480" y="1889280"/>
                    <a:ext cx="4670280" cy="39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tokollipered (internet ja mõned muud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905" name=""/>
          <p:cNvGraphicFramePr/>
          <p:nvPr/>
        </p:nvGraphicFramePr>
        <p:xfrm>
          <a:off x="1646280" y="1676520"/>
          <a:ext cx="62323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676520"/>
                    <a:ext cx="62323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209680" y="1066680"/>
          <a:ext cx="4572000" cy="518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1066680"/>
                    <a:ext cx="45720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"/>
          <p:cNvSpPr/>
          <p:nvPr/>
        </p:nvSpPr>
        <p:spPr>
          <a:xfrm flipH="1" flipV="1">
            <a:off x="6778440" y="2816280"/>
            <a:ext cx="920520" cy="691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391160" y="3505320"/>
            <a:ext cx="1219320" cy="119196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sa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tokol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hekokkuvõte protokollindusest interne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91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2971800" y="5638680"/>
            <a:ext cx="3581280" cy="457200"/>
            <a:chOff x="2971800" y="5638680"/>
            <a:chExt cx="3581280" cy="457200"/>
          </a:xfrm>
        </p:grpSpPr>
        <p:sp>
          <p:nvSpPr>
            <p:cNvPr id="917" name=""/>
            <p:cNvSpPr/>
            <p:nvPr/>
          </p:nvSpPr>
          <p:spPr>
            <a:xfrm>
              <a:off x="2971800" y="5638680"/>
              <a:ext cx="3581280" cy="45720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971800" y="5638680"/>
              <a:ext cx="358128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2971800" y="5029200"/>
            <a:ext cx="3581280" cy="457200"/>
            <a:chOff x="2971800" y="5029200"/>
            <a:chExt cx="3581280" cy="457200"/>
          </a:xfrm>
        </p:grpSpPr>
        <p:sp>
          <p:nvSpPr>
            <p:cNvPr id="920" name=""/>
            <p:cNvSpPr/>
            <p:nvPr/>
          </p:nvSpPr>
          <p:spPr>
            <a:xfrm>
              <a:off x="2971800" y="5029200"/>
              <a:ext cx="3581280" cy="45720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71800" y="5029200"/>
              <a:ext cx="358128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2895480" y="4038480"/>
            <a:ext cx="3581640" cy="533520"/>
            <a:chOff x="2895480" y="4038480"/>
            <a:chExt cx="3581640" cy="533520"/>
          </a:xfrm>
        </p:grpSpPr>
        <p:sp>
          <p:nvSpPr>
            <p:cNvPr id="923" name=""/>
            <p:cNvSpPr/>
            <p:nvPr/>
          </p:nvSpPr>
          <p:spPr>
            <a:xfrm>
              <a:off x="2895480" y="4038480"/>
              <a:ext cx="3581640" cy="53352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895480" y="4038480"/>
              <a:ext cx="3581640" cy="53352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133720" y="2666880"/>
            <a:ext cx="1600200" cy="762120"/>
            <a:chOff x="2133720" y="2666880"/>
            <a:chExt cx="1600200" cy="762120"/>
          </a:xfrm>
        </p:grpSpPr>
        <p:sp>
          <p:nvSpPr>
            <p:cNvPr id="926" name=""/>
            <p:cNvSpPr/>
            <p:nvPr/>
          </p:nvSpPr>
          <p:spPr>
            <a:xfrm>
              <a:off x="2133720" y="2666880"/>
              <a:ext cx="1600200" cy="7621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33720" y="2666880"/>
              <a:ext cx="1600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5562720" y="2743200"/>
            <a:ext cx="1600200" cy="762120"/>
            <a:chOff x="5562720" y="2743200"/>
            <a:chExt cx="1600200" cy="762120"/>
          </a:xfrm>
        </p:grpSpPr>
        <p:sp>
          <p:nvSpPr>
            <p:cNvPr id="929" name=""/>
            <p:cNvSpPr/>
            <p:nvPr/>
          </p:nvSpPr>
          <p:spPr>
            <a:xfrm>
              <a:off x="5562720" y="2743200"/>
              <a:ext cx="1600200" cy="7621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62720" y="2743200"/>
              <a:ext cx="1600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1219320" y="1600200"/>
            <a:ext cx="1066680" cy="685800"/>
            <a:chOff x="1219320" y="1600200"/>
            <a:chExt cx="1066680" cy="685800"/>
          </a:xfrm>
        </p:grpSpPr>
        <p:sp>
          <p:nvSpPr>
            <p:cNvPr id="932" name=""/>
            <p:cNvSpPr/>
            <p:nvPr/>
          </p:nvSpPr>
          <p:spPr>
            <a:xfrm>
              <a:off x="12193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2193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2438280" y="1600200"/>
            <a:ext cx="1067040" cy="685800"/>
            <a:chOff x="2438280" y="1600200"/>
            <a:chExt cx="1067040" cy="685800"/>
          </a:xfrm>
        </p:grpSpPr>
        <p:sp>
          <p:nvSpPr>
            <p:cNvPr id="935" name=""/>
            <p:cNvSpPr/>
            <p:nvPr/>
          </p:nvSpPr>
          <p:spPr>
            <a:xfrm>
              <a:off x="2438280" y="1600200"/>
              <a:ext cx="106704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8280" y="1600200"/>
              <a:ext cx="106704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3657600" y="1600200"/>
            <a:ext cx="1066680" cy="685800"/>
            <a:chOff x="3657600" y="1600200"/>
            <a:chExt cx="1066680" cy="685800"/>
          </a:xfrm>
        </p:grpSpPr>
        <p:sp>
          <p:nvSpPr>
            <p:cNvPr id="938" name=""/>
            <p:cNvSpPr/>
            <p:nvPr/>
          </p:nvSpPr>
          <p:spPr>
            <a:xfrm>
              <a:off x="365760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65760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5334120" y="1600200"/>
            <a:ext cx="1066680" cy="685800"/>
            <a:chOff x="5334120" y="1600200"/>
            <a:chExt cx="1066680" cy="685800"/>
          </a:xfrm>
        </p:grpSpPr>
        <p:sp>
          <p:nvSpPr>
            <p:cNvPr id="941" name=""/>
            <p:cNvSpPr/>
            <p:nvPr/>
          </p:nvSpPr>
          <p:spPr>
            <a:xfrm>
              <a:off x="53341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341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705720" y="1600200"/>
            <a:ext cx="1066680" cy="685800"/>
            <a:chOff x="6705720" y="1600200"/>
            <a:chExt cx="1066680" cy="685800"/>
          </a:xfrm>
        </p:grpSpPr>
        <p:sp>
          <p:nvSpPr>
            <p:cNvPr id="944" name=""/>
            <p:cNvSpPr/>
            <p:nvPr/>
          </p:nvSpPr>
          <p:spPr>
            <a:xfrm>
              <a:off x="67057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7057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344600" y="2379600"/>
            <a:ext cx="6411960" cy="2409840"/>
          </a:xfrm>
          <a:custGeom>
            <a:avLst/>
            <a:gdLst/>
            <a:ahLst/>
            <a:rect l="l" t="t" r="r" b="b"/>
            <a:pathLst>
              <a:path w="17812" h="6692">
                <a:moveTo>
                  <a:pt x="1905" y="524"/>
                </a:moveTo>
                <a:cubicBezTo>
                  <a:pt x="1525" y="577"/>
                  <a:pt x="996" y="688"/>
                  <a:pt x="674" y="899"/>
                </a:cubicBezTo>
                <a:cubicBezTo>
                  <a:pt x="176" y="1230"/>
                  <a:pt x="555" y="1032"/>
                  <a:pt x="224" y="1195"/>
                </a:cubicBezTo>
                <a:cubicBezTo>
                  <a:pt x="110" y="1631"/>
                  <a:pt x="273" y="1045"/>
                  <a:pt x="110" y="1495"/>
                </a:cubicBezTo>
                <a:cubicBezTo>
                  <a:pt x="39" y="1684"/>
                  <a:pt x="52" y="1896"/>
                  <a:pt x="0" y="2095"/>
                </a:cubicBezTo>
                <a:cubicBezTo>
                  <a:pt x="48" y="2694"/>
                  <a:pt x="198" y="3360"/>
                  <a:pt x="710" y="3735"/>
                </a:cubicBezTo>
                <a:cubicBezTo>
                  <a:pt x="811" y="3894"/>
                  <a:pt x="965" y="3965"/>
                  <a:pt x="1084" y="4110"/>
                </a:cubicBezTo>
                <a:cubicBezTo>
                  <a:pt x="1274" y="4340"/>
                  <a:pt x="1349" y="4481"/>
                  <a:pt x="1644" y="4560"/>
                </a:cubicBezTo>
                <a:cubicBezTo>
                  <a:pt x="1812" y="4670"/>
                  <a:pt x="1962" y="4820"/>
                  <a:pt x="2130" y="4931"/>
                </a:cubicBezTo>
                <a:cubicBezTo>
                  <a:pt x="2306" y="5050"/>
                  <a:pt x="2557" y="5059"/>
                  <a:pt x="2725" y="5195"/>
                </a:cubicBezTo>
                <a:cubicBezTo>
                  <a:pt x="2972" y="5398"/>
                  <a:pt x="3192" y="5689"/>
                  <a:pt x="3510" y="5791"/>
                </a:cubicBezTo>
                <a:cubicBezTo>
                  <a:pt x="3730" y="5936"/>
                  <a:pt x="4035" y="6042"/>
                  <a:pt x="4295" y="6091"/>
                </a:cubicBezTo>
                <a:cubicBezTo>
                  <a:pt x="4520" y="6316"/>
                  <a:pt x="4608" y="6271"/>
                  <a:pt x="4930" y="6316"/>
                </a:cubicBezTo>
                <a:cubicBezTo>
                  <a:pt x="5472" y="6483"/>
                  <a:pt x="4864" y="6307"/>
                  <a:pt x="6350" y="6426"/>
                </a:cubicBezTo>
                <a:cubicBezTo>
                  <a:pt x="6575" y="6444"/>
                  <a:pt x="6756" y="6642"/>
                  <a:pt x="6985" y="6651"/>
                </a:cubicBezTo>
                <a:cubicBezTo>
                  <a:pt x="7633" y="6673"/>
                  <a:pt x="8281" y="6677"/>
                  <a:pt x="8930" y="6691"/>
                </a:cubicBezTo>
                <a:cubicBezTo>
                  <a:pt x="10707" y="6616"/>
                  <a:pt x="12449" y="6426"/>
                  <a:pt x="14231" y="6391"/>
                </a:cubicBezTo>
                <a:cubicBezTo>
                  <a:pt x="14469" y="6307"/>
                  <a:pt x="14729" y="6276"/>
                  <a:pt x="14980" y="6241"/>
                </a:cubicBezTo>
                <a:cubicBezTo>
                  <a:pt x="15364" y="6047"/>
                  <a:pt x="14901" y="6267"/>
                  <a:pt x="15280" y="6126"/>
                </a:cubicBezTo>
                <a:cubicBezTo>
                  <a:pt x="15412" y="6077"/>
                  <a:pt x="15518" y="5989"/>
                  <a:pt x="15651" y="5941"/>
                </a:cubicBezTo>
                <a:cubicBezTo>
                  <a:pt x="15862" y="5632"/>
                  <a:pt x="16286" y="5526"/>
                  <a:pt x="16621" y="5420"/>
                </a:cubicBezTo>
                <a:cubicBezTo>
                  <a:pt x="16735" y="5385"/>
                  <a:pt x="16846" y="5345"/>
                  <a:pt x="16960" y="5306"/>
                </a:cubicBezTo>
                <a:cubicBezTo>
                  <a:pt x="17044" y="5275"/>
                  <a:pt x="17185" y="5156"/>
                  <a:pt x="17185" y="5156"/>
                </a:cubicBezTo>
                <a:cubicBezTo>
                  <a:pt x="17811" y="4176"/>
                  <a:pt x="17256" y="1627"/>
                  <a:pt x="17256" y="1534"/>
                </a:cubicBezTo>
                <a:cubicBezTo>
                  <a:pt x="17247" y="1160"/>
                  <a:pt x="16965" y="846"/>
                  <a:pt x="16621" y="710"/>
                </a:cubicBezTo>
                <a:cubicBezTo>
                  <a:pt x="16039" y="127"/>
                  <a:pt x="15915" y="476"/>
                  <a:pt x="14605" y="449"/>
                </a:cubicBezTo>
                <a:cubicBezTo>
                  <a:pt x="14522" y="189"/>
                  <a:pt x="14173" y="269"/>
                  <a:pt x="13935" y="264"/>
                </a:cubicBezTo>
                <a:cubicBezTo>
                  <a:pt x="11695" y="242"/>
                  <a:pt x="9450" y="238"/>
                  <a:pt x="7210" y="224"/>
                </a:cubicBezTo>
                <a:cubicBezTo>
                  <a:pt x="7130" y="0"/>
                  <a:pt x="6981" y="176"/>
                  <a:pt x="6800" y="189"/>
                </a:cubicBezTo>
                <a:cubicBezTo>
                  <a:pt x="6500" y="211"/>
                  <a:pt x="6200" y="211"/>
                  <a:pt x="5900" y="224"/>
                </a:cubicBezTo>
                <a:cubicBezTo>
                  <a:pt x="5014" y="383"/>
                  <a:pt x="5984" y="224"/>
                  <a:pt x="3735" y="224"/>
                </a:cubicBezTo>
                <a:cubicBezTo>
                  <a:pt x="3435" y="224"/>
                  <a:pt x="3139" y="286"/>
                  <a:pt x="2840" y="299"/>
                </a:cubicBezTo>
                <a:cubicBezTo>
                  <a:pt x="2676" y="352"/>
                  <a:pt x="2487" y="427"/>
                  <a:pt x="2315" y="449"/>
                </a:cubicBezTo>
                <a:cubicBezTo>
                  <a:pt x="1869" y="507"/>
                  <a:pt x="1768" y="370"/>
                  <a:pt x="1905" y="524"/>
                </a:cubicBezTo>
                <a:lnTo>
                  <a:pt x="1905" y="524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066680" y="4035240"/>
            <a:ext cx="838440" cy="13014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2240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3197160" y="3502080"/>
            <a:ext cx="387360" cy="387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5410080" y="3578400"/>
            <a:ext cx="381240" cy="3110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6629400" y="2359080"/>
            <a:ext cx="380880" cy="3110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 flipV="1">
            <a:off x="6016320" y="2359080"/>
            <a:ext cx="158760" cy="3110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 flipV="1">
            <a:off x="2130120" y="2282760"/>
            <a:ext cx="158760" cy="3110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2895480" y="2359080"/>
            <a:ext cx="1800" cy="234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3429000" y="2282760"/>
            <a:ext cx="304920" cy="3110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648320" y="4645080"/>
            <a:ext cx="1440" cy="3110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4648320" y="5482800"/>
            <a:ext cx="1440" cy="1587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6626160" y="5334120"/>
            <a:ext cx="844560" cy="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44768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887400" y="1157400"/>
            <a:ext cx="7292880" cy="1249200"/>
          </a:xfrm>
          <a:custGeom>
            <a:avLst/>
            <a:gdLst/>
            <a:ahLst/>
            <a:rect l="l" t="t" r="r" b="b"/>
            <a:pathLst>
              <a:path w="20259" h="3471">
                <a:moveTo>
                  <a:pt x="449" y="820"/>
                </a:moveTo>
                <a:cubicBezTo>
                  <a:pt x="317" y="1014"/>
                  <a:pt x="141" y="1142"/>
                  <a:pt x="74" y="1380"/>
                </a:cubicBezTo>
                <a:cubicBezTo>
                  <a:pt x="44" y="1490"/>
                  <a:pt x="0" y="1715"/>
                  <a:pt x="0" y="1715"/>
                </a:cubicBezTo>
                <a:cubicBezTo>
                  <a:pt x="26" y="1940"/>
                  <a:pt x="26" y="2169"/>
                  <a:pt x="74" y="2390"/>
                </a:cubicBezTo>
                <a:cubicBezTo>
                  <a:pt x="114" y="2562"/>
                  <a:pt x="189" y="2518"/>
                  <a:pt x="299" y="2575"/>
                </a:cubicBezTo>
                <a:cubicBezTo>
                  <a:pt x="476" y="2663"/>
                  <a:pt x="582" y="2840"/>
                  <a:pt x="745" y="2950"/>
                </a:cubicBezTo>
                <a:cubicBezTo>
                  <a:pt x="1093" y="3466"/>
                  <a:pt x="2152" y="3422"/>
                  <a:pt x="2650" y="3435"/>
                </a:cubicBezTo>
                <a:cubicBezTo>
                  <a:pt x="3474" y="3457"/>
                  <a:pt x="4295" y="3457"/>
                  <a:pt x="5119" y="3470"/>
                </a:cubicBezTo>
                <a:cubicBezTo>
                  <a:pt x="9988" y="3422"/>
                  <a:pt x="14856" y="3351"/>
                  <a:pt x="19725" y="3321"/>
                </a:cubicBezTo>
                <a:cubicBezTo>
                  <a:pt x="19862" y="3228"/>
                  <a:pt x="20095" y="2985"/>
                  <a:pt x="20095" y="2985"/>
                </a:cubicBezTo>
                <a:cubicBezTo>
                  <a:pt x="20258" y="2580"/>
                  <a:pt x="20210" y="2412"/>
                  <a:pt x="20170" y="1900"/>
                </a:cubicBezTo>
                <a:cubicBezTo>
                  <a:pt x="20166" y="1870"/>
                  <a:pt x="20122" y="1517"/>
                  <a:pt x="20095" y="1455"/>
                </a:cubicBezTo>
                <a:cubicBezTo>
                  <a:pt x="19932" y="1107"/>
                  <a:pt x="19959" y="1230"/>
                  <a:pt x="19760" y="1005"/>
                </a:cubicBezTo>
                <a:cubicBezTo>
                  <a:pt x="19663" y="890"/>
                  <a:pt x="19632" y="793"/>
                  <a:pt x="19500" y="705"/>
                </a:cubicBezTo>
                <a:cubicBezTo>
                  <a:pt x="19165" y="485"/>
                  <a:pt x="18900" y="511"/>
                  <a:pt x="18490" y="485"/>
                </a:cubicBezTo>
                <a:cubicBezTo>
                  <a:pt x="17767" y="224"/>
                  <a:pt x="18486" y="471"/>
                  <a:pt x="16435" y="410"/>
                </a:cubicBezTo>
                <a:cubicBezTo>
                  <a:pt x="15747" y="388"/>
                  <a:pt x="15064" y="330"/>
                  <a:pt x="14380" y="295"/>
                </a:cubicBezTo>
                <a:cubicBezTo>
                  <a:pt x="11593" y="0"/>
                  <a:pt x="12096" y="229"/>
                  <a:pt x="6575" y="260"/>
                </a:cubicBezTo>
                <a:cubicBezTo>
                  <a:pt x="5737" y="392"/>
                  <a:pt x="4881" y="401"/>
                  <a:pt x="4035" y="445"/>
                </a:cubicBezTo>
                <a:cubicBezTo>
                  <a:pt x="3743" y="524"/>
                  <a:pt x="3439" y="516"/>
                  <a:pt x="3139" y="560"/>
                </a:cubicBezTo>
                <a:cubicBezTo>
                  <a:pt x="2725" y="617"/>
                  <a:pt x="2319" y="692"/>
                  <a:pt x="1905" y="745"/>
                </a:cubicBezTo>
                <a:cubicBezTo>
                  <a:pt x="1411" y="904"/>
                  <a:pt x="952" y="890"/>
                  <a:pt x="449" y="820"/>
                </a:cubicBezTo>
                <a:lnTo>
                  <a:pt x="449" y="820"/>
                </a:ln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609480" y="2282400"/>
            <a:ext cx="609840" cy="6159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2895480"/>
            <a:ext cx="182880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27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irülevaade võrgunduse funktsioneerimi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100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773280" cy="546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696080" y="5181480"/>
            <a:ext cx="773280" cy="546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20600" y="2932200"/>
            <a:ext cx="311220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äib ko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eg ja ootab, et kee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lle infot (mingi teks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aks. Kui saadetak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ta rehkendab vast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aadab vast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65640" y="3276720"/>
            <a:ext cx="312444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aad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le 1 masinas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, ootab vastu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järel vaatab, m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ses on, ja vastav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gutse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32960" y="1981080"/>
            <a:ext cx="104544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22400" y="5334120"/>
            <a:ext cx="104544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666880"/>
            <a:ext cx="4800600" cy="2743200"/>
          </a:xfrm>
          <a:prstGeom prst="line">
            <a:avLst/>
          </a:prstGeom>
          <a:ln w="25560">
            <a:solidFill>
              <a:srgbClr val="3333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16120" y="2209680"/>
            <a:ext cx="191124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37160" y="1789200"/>
            <a:ext cx="246456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 või raadio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 valguska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59080" y="4724280"/>
            <a:ext cx="5459040" cy="1490760"/>
            <a:chOff x="559080" y="4724280"/>
            <a:chExt cx="5459040" cy="1490760"/>
          </a:xfrm>
        </p:grpSpPr>
        <p:sp>
          <p:nvSpPr>
            <p:cNvPr id="112" name=""/>
            <p:cNvSpPr/>
            <p:nvPr/>
          </p:nvSpPr>
          <p:spPr>
            <a:xfrm>
              <a:off x="609480" y="4724280"/>
              <a:ext cx="5315040" cy="1490760"/>
            </a:xfrm>
            <a:prstGeom prst="roundRect">
              <a:avLst>
                <a:gd name="adj" fmla="val 106"/>
              </a:avLst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9080" y="4724280"/>
              <a:ext cx="5459040" cy="127368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NB!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asinates X ja Y on</a:t>
              </a: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 elektroonikatük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(võrgukaart)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is on traadi küljes ja suudab mõõ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inget traadis ja sinna ise pinget peale and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rogrammid 1 ja 2 juhivad/kuulavad võrgukaar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kaardi draiveriprogrammi abi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 jne jne saatmiseks veebiserveri ja brauseri vah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65" name="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6934320" y="4114800"/>
            <a:ext cx="1600200" cy="1905120"/>
            <a:chOff x="6934320" y="4114800"/>
            <a:chExt cx="1600200" cy="1905120"/>
          </a:xfrm>
        </p:grpSpPr>
        <p:sp>
          <p:nvSpPr>
            <p:cNvPr id="967" name=""/>
            <p:cNvSpPr/>
            <p:nvPr/>
          </p:nvSpPr>
          <p:spPr>
            <a:xfrm>
              <a:off x="6934320" y="4114800"/>
              <a:ext cx="1600200" cy="1905120"/>
            </a:xfrm>
            <a:custGeom>
              <a:avLst/>
              <a:gdLst>
                <a:gd name="textAreaLeft" fmla="*/ 360 w 1600200"/>
                <a:gd name="textAreaRight" fmla="*/ 1599840 w 1600200"/>
                <a:gd name="textAreaTop" fmla="*/ 360 h 1905120"/>
                <a:gd name="textAreaBottom" fmla="*/ 190476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21" y="0"/>
                  </a:moveTo>
                  <a:arcTo wR="21" hR="21" stAng="16200000" swAng="-5400000"/>
                  <a:lnTo>
                    <a:pt x="0" y="25694"/>
                  </a:lnTo>
                  <a:arcTo wR="21" hR="21" stAng="10800000" swAng="-5400000"/>
                  <a:lnTo>
                    <a:pt x="21579" y="25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934320" y="4114800"/>
              <a:ext cx="1600200" cy="1905120"/>
            </a:xfrm>
            <a:custGeom>
              <a:avLst/>
              <a:gdLst>
                <a:gd name="textAreaLeft" fmla="*/ 360 w 1600200"/>
                <a:gd name="textAreaRight" fmla="*/ 1599840 w 1600200"/>
                <a:gd name="textAreaTop" fmla="*/ 360 h 1905120"/>
                <a:gd name="textAreaBottom" fmla="*/ 190476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21" y="0"/>
                  </a:moveTo>
                  <a:arcTo wR="21" hR="21" stAng="16200000" swAng="-5400000"/>
                  <a:lnTo>
                    <a:pt x="0" y="25694"/>
                  </a:lnTo>
                  <a:arcTo wR="21" hR="21" stAng="10800000" swAng="-5400000"/>
                  <a:lnTo>
                    <a:pt x="21579" y="25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142956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 flipV="1">
            <a:off x="3349440" y="2587320"/>
            <a:ext cx="3282840" cy="1377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83300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352680" y="3429000"/>
            <a:ext cx="3200400" cy="1295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pär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72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päring on sisuliselt tekstiline käsk serverile: 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 mulle selline fail”, kus näidatakse ä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ne küsimus-käs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 asukoht ja nim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tokoll, mida küsija kasuta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oovi korral lisainfot, nagu küsija programmi tüüp (Mozilla, Ie, Konqueror, ..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tame telnet ühenduse masina deepthought.ttu.ee porti 8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ipime sisse, seejärel tipime kaks reavahetus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ET /it/index.html HTTP/1.0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vastus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ei ole ehitatud “biti või baidi” tasemel, vaid teksti ridade kaupa: päis, tühi rida, tekstire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e: Thu, 06 Nov 2003 13:50:07 GM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rver: Apache/1.3.19 (Unix) PHP/4.1.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-Modified: Sat, 10 Apr 1999 09:29:18 GM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Tag: "46d8-297-370f19ee"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cept-Ranges: byt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Length: 66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nection: clo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META HTTP-EQUIV="Content-type" CONTENT="text/html; charset=ISO-8859-1"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.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78" name=""/>
          <p:cNvSpPr/>
          <p:nvPr/>
        </p:nvSpPr>
        <p:spPr>
          <a:xfrm>
            <a:off x="609480" y="1905120"/>
            <a:ext cx="228600" cy="2361960"/>
          </a:xfrm>
          <a:custGeom>
            <a:avLst/>
            <a:gdLst/>
            <a:ahLst/>
            <a:rect l="l" t="t" r="r" b="b"/>
            <a:pathLst>
              <a:path w="636" h="6562">
                <a:moveTo>
                  <a:pt x="635" y="0"/>
                </a:moveTo>
                <a:cubicBezTo>
                  <a:pt x="476" y="0"/>
                  <a:pt x="317" y="273"/>
                  <a:pt x="317" y="546"/>
                </a:cubicBezTo>
                <a:lnTo>
                  <a:pt x="317" y="2734"/>
                </a:lnTo>
                <a:cubicBezTo>
                  <a:pt x="317" y="3007"/>
                  <a:pt x="158" y="3280"/>
                  <a:pt x="0" y="3280"/>
                </a:cubicBezTo>
                <a:cubicBezTo>
                  <a:pt x="158" y="3280"/>
                  <a:pt x="317" y="3554"/>
                  <a:pt x="317" y="3827"/>
                </a:cubicBezTo>
                <a:lnTo>
                  <a:pt x="317" y="6015"/>
                </a:lnTo>
                <a:cubicBezTo>
                  <a:pt x="317" y="6288"/>
                  <a:pt x="476" y="6561"/>
                  <a:pt x="635" y="6561"/>
                </a:cubicBezTo>
              </a:path>
            </a:pathLst>
          </a:cu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" y="2514600"/>
            <a:ext cx="350640" cy="1557720"/>
          </a:xfrm>
          <a:custGeom>
            <a:avLst/>
            <a:gdLst>
              <a:gd name="textAreaLeft" fmla="*/ 360 w 350640"/>
              <a:gd name="textAreaRight" fmla="*/ 350280 w 350640"/>
              <a:gd name="textAreaTop" fmla="*/ 360 h 1557720"/>
              <a:gd name="textAreaBottom" fmla="*/ 1557360 h 1557720"/>
            </a:gdLst>
            <a:ahLst/>
            <a:rect l="textAreaLeft" t="textAreaTop" r="textAreaRight" b="textAreaBottom"/>
            <a:pathLst>
              <a:path w="21600" h="95882">
                <a:moveTo>
                  <a:pt x="97" y="0"/>
                </a:moveTo>
                <a:arcTo wR="97" hR="97" stAng="16200000" swAng="-5400000"/>
                <a:lnTo>
                  <a:pt x="0" y="95785"/>
                </a:lnTo>
                <a:arcTo wR="97" hR="97" stAng="10800000" swAng="-5400000"/>
                <a:lnTo>
                  <a:pt x="21503" y="95882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380880" y="4721040"/>
            <a:ext cx="457200" cy="539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76760" y="5181480"/>
            <a:ext cx="689040" cy="826200"/>
          </a:xfrm>
          <a:custGeom>
            <a:avLst/>
            <a:gdLst>
              <a:gd name="textAreaLeft" fmla="*/ 360 w 689040"/>
              <a:gd name="textAreaRight" fmla="*/ 688680 w 689040"/>
              <a:gd name="textAreaTop" fmla="*/ 360 h 826200"/>
              <a:gd name="textAreaBottom" fmla="*/ 825840 h 826200"/>
            </a:gdLst>
            <a:ahLst/>
            <a:rect l="textAreaLeft" t="textAreaTop" r="textAreaRight" b="textAreaBottom"/>
            <a:pathLst>
              <a:path w="21600" h="25897">
                <a:moveTo>
                  <a:pt x="49" y="0"/>
                </a:moveTo>
                <a:arcTo wR="49" hR="49" stAng="16200000" swAng="-5400000"/>
                <a:lnTo>
                  <a:pt x="0" y="25848"/>
                </a:lnTo>
                <a:arcTo wR="49" hR="49" stAng="10800000" swAng="-5400000"/>
                <a:lnTo>
                  <a:pt x="21551" y="25897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ü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001000" y="4952880"/>
            <a:ext cx="609480" cy="1371600"/>
          </a:xfrm>
          <a:custGeom>
            <a:avLst/>
            <a:gdLst/>
            <a:ahLst/>
            <a:rect l="l" t="t" r="r" b="b"/>
            <a:pathLst>
              <a:path w="1695" h="3812">
                <a:moveTo>
                  <a:pt x="0" y="0"/>
                </a:moveTo>
                <a:cubicBezTo>
                  <a:pt x="423" y="0"/>
                  <a:pt x="847" y="158"/>
                  <a:pt x="847" y="317"/>
                </a:cubicBezTo>
                <a:lnTo>
                  <a:pt x="847" y="1587"/>
                </a:lnTo>
                <a:cubicBezTo>
                  <a:pt x="847" y="1746"/>
                  <a:pt x="1270" y="1905"/>
                  <a:pt x="1694" y="1905"/>
                </a:cubicBezTo>
                <a:cubicBezTo>
                  <a:pt x="1270" y="1905"/>
                  <a:pt x="847" y="2064"/>
                  <a:pt x="847" y="2223"/>
                </a:cubicBezTo>
                <a:lnTo>
                  <a:pt x="847" y="3493"/>
                </a:lnTo>
                <a:cubicBezTo>
                  <a:pt x="847" y="3652"/>
                  <a:pt x="423" y="3811"/>
                  <a:pt x="0" y="3811"/>
                </a:cubicBezTo>
              </a:path>
            </a:pathLst>
          </a:cu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017200" y="4114800"/>
            <a:ext cx="116136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ge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dasi HTTP suunas: DNS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Domain Name Serve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50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esann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ui programmile on antud masina nimi, millega ühendust võtta (näiteks,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www.cnn.co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, siis tuleb kõigepealt leida sellenimelise masina IP aadres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NS server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serverid, mis sisaldavad “nimi&lt;-&gt;IP aadress” tabeleid ja vastavad päringutele “anna selle nime IP aadress”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na DNS päring tuleb teha iga hariliku www-päringu jaoks, siis neid päringuid tehakse maailmas tohutult palju (rohkem kui mistahes muid infopäringuid). Üks masin või kanal ei pea seda vast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jutatud andmeb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DNS servereid on maailmas väga palju. Igaüks saab üles panna oma DNS serveri. DNS serverid süngivad omavahel infot oma tabelite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5276880" y="1066680"/>
            <a:ext cx="3173400" cy="5181840"/>
            <a:chOff x="5276880" y="1066680"/>
            <a:chExt cx="3173400" cy="5181840"/>
          </a:xfrm>
        </p:grpSpPr>
        <p:sp>
          <p:nvSpPr>
            <p:cNvPr id="987" name=""/>
            <p:cNvSpPr/>
            <p:nvPr/>
          </p:nvSpPr>
          <p:spPr>
            <a:xfrm>
              <a:off x="5276880" y="2971800"/>
              <a:ext cx="3173400" cy="3276720"/>
            </a:xfrm>
            <a:custGeom>
              <a:avLst/>
              <a:gdLst/>
              <a:ahLst/>
              <a:rect l="l" t="t" r="r" b="b"/>
              <a:pathLst>
                <a:path w="8813" h="9103">
                  <a:moveTo>
                    <a:pt x="1157" y="0"/>
                  </a:moveTo>
                  <a:lnTo>
                    <a:pt x="0" y="1554"/>
                  </a:lnTo>
                  <a:lnTo>
                    <a:pt x="926" y="3329"/>
                  </a:lnTo>
                  <a:lnTo>
                    <a:pt x="1157" y="5327"/>
                  </a:lnTo>
                  <a:lnTo>
                    <a:pt x="926" y="6437"/>
                  </a:lnTo>
                  <a:lnTo>
                    <a:pt x="463" y="7325"/>
                  </a:lnTo>
                  <a:lnTo>
                    <a:pt x="463" y="8213"/>
                  </a:lnTo>
                  <a:lnTo>
                    <a:pt x="2083" y="9102"/>
                  </a:lnTo>
                  <a:lnTo>
                    <a:pt x="3935" y="8879"/>
                  </a:lnTo>
                  <a:lnTo>
                    <a:pt x="5787" y="7991"/>
                  </a:lnTo>
                  <a:cubicBezTo>
                    <a:pt x="6096" y="7917"/>
                    <a:pt x="6419" y="7885"/>
                    <a:pt x="6713" y="7769"/>
                  </a:cubicBezTo>
                  <a:cubicBezTo>
                    <a:pt x="6762" y="7751"/>
                    <a:pt x="6713" y="7668"/>
                    <a:pt x="6737" y="7626"/>
                  </a:cubicBezTo>
                  <a:cubicBezTo>
                    <a:pt x="6819" y="7487"/>
                    <a:pt x="7022" y="7237"/>
                    <a:pt x="7157" y="7117"/>
                  </a:cubicBezTo>
                  <a:cubicBezTo>
                    <a:pt x="7244" y="6867"/>
                    <a:pt x="7162" y="6932"/>
                    <a:pt x="7311" y="6858"/>
                  </a:cubicBezTo>
                  <a:lnTo>
                    <a:pt x="8334" y="5549"/>
                  </a:lnTo>
                  <a:lnTo>
                    <a:pt x="8797" y="4439"/>
                  </a:lnTo>
                  <a:cubicBezTo>
                    <a:pt x="8768" y="3856"/>
                    <a:pt x="8812" y="3824"/>
                    <a:pt x="8643" y="3426"/>
                  </a:cubicBezTo>
                  <a:cubicBezTo>
                    <a:pt x="8614" y="3357"/>
                    <a:pt x="8599" y="3278"/>
                    <a:pt x="8566" y="3209"/>
                  </a:cubicBezTo>
                  <a:cubicBezTo>
                    <a:pt x="8527" y="3130"/>
                    <a:pt x="8416" y="2991"/>
                    <a:pt x="8416" y="2991"/>
                  </a:cubicBezTo>
                  <a:lnTo>
                    <a:pt x="6250" y="888"/>
                  </a:lnTo>
                  <a:lnTo>
                    <a:pt x="4166" y="444"/>
                  </a:lnTo>
                  <a:lnTo>
                    <a:pt x="3009" y="222"/>
                  </a:lnTo>
                  <a:lnTo>
                    <a:pt x="1620" y="0"/>
                  </a:lnTo>
                  <a:lnTo>
                    <a:pt x="1157" y="0"/>
                  </a:lnTo>
                  <a:lnTo>
                    <a:pt x="1157" y="0"/>
                  </a:lnTo>
                </a:path>
              </a:pathLst>
            </a:custGeom>
            <a:solidFill>
              <a:srgbClr val="00cc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780600" y="1066680"/>
              <a:ext cx="1278720" cy="44928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do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6822720" y="1447920"/>
              <a:ext cx="50004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6684840" y="3124080"/>
            <a:ext cx="2214720" cy="1752840"/>
            <a:chOff x="6684840" y="3124080"/>
            <a:chExt cx="2214720" cy="1752840"/>
          </a:xfrm>
        </p:grpSpPr>
        <p:sp>
          <p:nvSpPr>
            <p:cNvPr id="991" name=""/>
            <p:cNvSpPr/>
            <p:nvPr/>
          </p:nvSpPr>
          <p:spPr>
            <a:xfrm>
              <a:off x="6684840" y="3886200"/>
              <a:ext cx="1266840" cy="990720"/>
            </a:xfrm>
            <a:custGeom>
              <a:avLst/>
              <a:gdLst/>
              <a:ahLst/>
              <a:rect l="l" t="t" r="r" b="b"/>
              <a:pathLst>
                <a:path w="3520" h="2753">
                  <a:moveTo>
                    <a:pt x="977" y="211"/>
                  </a:moveTo>
                  <a:lnTo>
                    <a:pt x="0" y="1057"/>
                  </a:lnTo>
                  <a:lnTo>
                    <a:pt x="195" y="1904"/>
                  </a:lnTo>
                  <a:lnTo>
                    <a:pt x="391" y="2116"/>
                  </a:lnTo>
                  <a:lnTo>
                    <a:pt x="586" y="2328"/>
                  </a:lnTo>
                  <a:lnTo>
                    <a:pt x="1563" y="2540"/>
                  </a:lnTo>
                  <a:lnTo>
                    <a:pt x="2150" y="2752"/>
                  </a:lnTo>
                  <a:lnTo>
                    <a:pt x="2737" y="2540"/>
                  </a:lnTo>
                  <a:lnTo>
                    <a:pt x="3127" y="2540"/>
                  </a:lnTo>
                  <a:lnTo>
                    <a:pt x="3323" y="2116"/>
                  </a:lnTo>
                  <a:lnTo>
                    <a:pt x="3519" y="1269"/>
                  </a:lnTo>
                  <a:lnTo>
                    <a:pt x="3127" y="634"/>
                  </a:lnTo>
                  <a:lnTo>
                    <a:pt x="2932" y="211"/>
                  </a:lnTo>
                  <a:lnTo>
                    <a:pt x="2150" y="0"/>
                  </a:lnTo>
                  <a:lnTo>
                    <a:pt x="1563" y="0"/>
                  </a:lnTo>
                  <a:lnTo>
                    <a:pt x="977" y="211"/>
                  </a:lnTo>
                  <a:lnTo>
                    <a:pt x="977" y="211"/>
                  </a:lnTo>
                </a:path>
              </a:pathLst>
            </a:cu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986600" y="3124080"/>
              <a:ext cx="912960" cy="44928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z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7596000" y="3581280"/>
              <a:ext cx="70956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 DNS  tre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1951920" y="2590920"/>
            <a:ext cx="1849680" cy="993600"/>
            <a:chOff x="1951920" y="2590920"/>
            <a:chExt cx="1849680" cy="993600"/>
          </a:xfrm>
        </p:grpSpPr>
        <p:sp>
          <p:nvSpPr>
            <p:cNvPr id="996" name=""/>
            <p:cNvSpPr/>
            <p:nvPr/>
          </p:nvSpPr>
          <p:spPr>
            <a:xfrm flipH="1">
              <a:off x="2950920" y="2590920"/>
              <a:ext cx="8506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951920" y="3124080"/>
              <a:ext cx="153792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3582720" y="2590920"/>
            <a:ext cx="1216080" cy="1146240"/>
            <a:chOff x="3582720" y="2590920"/>
            <a:chExt cx="1216080" cy="1146240"/>
          </a:xfrm>
        </p:grpSpPr>
        <p:sp>
          <p:nvSpPr>
            <p:cNvPr id="999" name=""/>
            <p:cNvSpPr/>
            <p:nvPr/>
          </p:nvSpPr>
          <p:spPr>
            <a:xfrm>
              <a:off x="3798720" y="2590920"/>
              <a:ext cx="352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582720" y="3276720"/>
              <a:ext cx="1216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kid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303480" y="3581280"/>
            <a:ext cx="2373120" cy="841680"/>
            <a:chOff x="303480" y="3581280"/>
            <a:chExt cx="2373120" cy="841680"/>
          </a:xfrm>
        </p:grpSpPr>
        <p:sp>
          <p:nvSpPr>
            <p:cNvPr id="1002" name=""/>
            <p:cNvSpPr/>
            <p:nvPr/>
          </p:nvSpPr>
          <p:spPr>
            <a:xfrm flipH="1">
              <a:off x="1614600" y="3581280"/>
              <a:ext cx="1062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03480" y="3962520"/>
              <a:ext cx="21564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rp.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 flipH="1">
            <a:off x="700200" y="4495680"/>
            <a:ext cx="4284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1195560" y="4419720"/>
            <a:ext cx="3497760" cy="1527120"/>
            <a:chOff x="1195560" y="4419720"/>
            <a:chExt cx="3497760" cy="1527120"/>
          </a:xfrm>
        </p:grpSpPr>
        <p:sp>
          <p:nvSpPr>
            <p:cNvPr id="1006" name=""/>
            <p:cNvSpPr/>
            <p:nvPr/>
          </p:nvSpPr>
          <p:spPr>
            <a:xfrm>
              <a:off x="1611720" y="5486400"/>
              <a:ext cx="30816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rket.corp.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195560" y="4419720"/>
              <a:ext cx="56340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266840" y="4419720"/>
            <a:ext cx="3726720" cy="993600"/>
            <a:chOff x="1266840" y="4419720"/>
            <a:chExt cx="3726720" cy="993600"/>
          </a:xfrm>
        </p:grpSpPr>
        <p:sp>
          <p:nvSpPr>
            <p:cNvPr id="1009" name=""/>
            <p:cNvSpPr/>
            <p:nvPr/>
          </p:nvSpPr>
          <p:spPr>
            <a:xfrm>
              <a:off x="1962360" y="4952880"/>
              <a:ext cx="30312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lbert.corp.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66840" y="4419720"/>
              <a:ext cx="9144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2036520" y="5943600"/>
            <a:ext cx="214560" cy="304920"/>
            <a:chOff x="2036520" y="5943600"/>
            <a:chExt cx="214560" cy="304920"/>
          </a:xfrm>
        </p:grpSpPr>
        <p:sp>
          <p:nvSpPr>
            <p:cNvPr id="1012" name=""/>
            <p:cNvSpPr/>
            <p:nvPr/>
          </p:nvSpPr>
          <p:spPr>
            <a:xfrm flipH="1">
              <a:off x="2036520" y="5943600"/>
              <a:ext cx="759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109960" y="5943600"/>
              <a:ext cx="1411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5837040" y="3581280"/>
            <a:ext cx="1521000" cy="1603440"/>
            <a:chOff x="5837040" y="3581280"/>
            <a:chExt cx="1521000" cy="1603440"/>
          </a:xfrm>
        </p:grpSpPr>
        <p:sp>
          <p:nvSpPr>
            <p:cNvPr id="1015" name=""/>
            <p:cNvSpPr/>
            <p:nvPr/>
          </p:nvSpPr>
          <p:spPr>
            <a:xfrm>
              <a:off x="5981760" y="3581280"/>
              <a:ext cx="35244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837040" y="4724280"/>
              <a:ext cx="15210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nix.os.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5557680" y="3505320"/>
            <a:ext cx="1758960" cy="2064600"/>
            <a:chOff x="5557680" y="3505320"/>
            <a:chExt cx="1758960" cy="2064600"/>
          </a:xfrm>
        </p:grpSpPr>
        <p:sp>
          <p:nvSpPr>
            <p:cNvPr id="1018" name=""/>
            <p:cNvSpPr/>
            <p:nvPr/>
          </p:nvSpPr>
          <p:spPr>
            <a:xfrm flipH="1">
              <a:off x="5835600" y="3505320"/>
              <a:ext cx="76320" cy="16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557680" y="5110200"/>
              <a:ext cx="17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c.os.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6051600" y="3505320"/>
            <a:ext cx="1859040" cy="1146240"/>
            <a:chOff x="6051600" y="3505320"/>
            <a:chExt cx="1859040" cy="1146240"/>
          </a:xfrm>
        </p:grpSpPr>
        <p:sp>
          <p:nvSpPr>
            <p:cNvPr id="1021" name=""/>
            <p:cNvSpPr/>
            <p:nvPr/>
          </p:nvSpPr>
          <p:spPr>
            <a:xfrm>
              <a:off x="6694560" y="4191120"/>
              <a:ext cx="1216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t.os.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51600" y="3505320"/>
              <a:ext cx="1195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3798720" y="2590920"/>
            <a:ext cx="2672280" cy="917640"/>
            <a:chOff x="3798720" y="2590920"/>
            <a:chExt cx="2672280" cy="917640"/>
          </a:xfrm>
        </p:grpSpPr>
        <p:sp>
          <p:nvSpPr>
            <p:cNvPr id="1024" name=""/>
            <p:cNvSpPr/>
            <p:nvPr/>
          </p:nvSpPr>
          <p:spPr>
            <a:xfrm>
              <a:off x="3798720" y="2590920"/>
              <a:ext cx="2041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492520" y="3048120"/>
              <a:ext cx="9784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3563280" y="1523880"/>
            <a:ext cx="1013040" cy="1070280"/>
            <a:chOff x="3563280" y="1523880"/>
            <a:chExt cx="1013040" cy="1070280"/>
          </a:xfrm>
        </p:grpSpPr>
        <p:sp>
          <p:nvSpPr>
            <p:cNvPr id="1027" name=""/>
            <p:cNvSpPr/>
            <p:nvPr/>
          </p:nvSpPr>
          <p:spPr>
            <a:xfrm>
              <a:off x="3563280" y="2133720"/>
              <a:ext cx="631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3936600" y="1523880"/>
              <a:ext cx="6397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4573440" y="1523880"/>
            <a:ext cx="1668240" cy="1070280"/>
            <a:chOff x="4573440" y="1523880"/>
            <a:chExt cx="1668240" cy="1070280"/>
          </a:xfrm>
        </p:grpSpPr>
        <p:sp>
          <p:nvSpPr>
            <p:cNvPr id="1030" name=""/>
            <p:cNvSpPr/>
            <p:nvPr/>
          </p:nvSpPr>
          <p:spPr>
            <a:xfrm>
              <a:off x="5458320" y="2133720"/>
              <a:ext cx="78336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573440" y="1523880"/>
              <a:ext cx="12668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91280" y="2362320"/>
            <a:ext cx="1407960" cy="533160"/>
            <a:chOff x="6191280" y="2362320"/>
            <a:chExt cx="1407960" cy="533160"/>
          </a:xfrm>
        </p:grpSpPr>
        <p:sp>
          <p:nvSpPr>
            <p:cNvPr id="1033" name=""/>
            <p:cNvSpPr/>
            <p:nvPr/>
          </p:nvSpPr>
          <p:spPr>
            <a:xfrm>
              <a:off x="6191280" y="2362320"/>
              <a:ext cx="1407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191280" y="2438280"/>
              <a:ext cx="1266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3429000" y="3733920"/>
            <a:ext cx="2293560" cy="1222200"/>
            <a:chOff x="3429000" y="3733920"/>
            <a:chExt cx="2293560" cy="1222200"/>
          </a:xfrm>
        </p:grpSpPr>
        <p:sp>
          <p:nvSpPr>
            <p:cNvPr id="1036" name=""/>
            <p:cNvSpPr/>
            <p:nvPr/>
          </p:nvSpPr>
          <p:spPr>
            <a:xfrm>
              <a:off x="3429000" y="4495680"/>
              <a:ext cx="229356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rnick.kid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081320" y="3733920"/>
              <a:ext cx="492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2658960" y="3733920"/>
            <a:ext cx="1749600" cy="841320"/>
            <a:chOff x="2658960" y="3733920"/>
            <a:chExt cx="1749600" cy="841320"/>
          </a:xfrm>
        </p:grpSpPr>
        <p:sp>
          <p:nvSpPr>
            <p:cNvPr id="1039" name=""/>
            <p:cNvSpPr/>
            <p:nvPr/>
          </p:nvSpPr>
          <p:spPr>
            <a:xfrm>
              <a:off x="2658960" y="4114800"/>
              <a:ext cx="17496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op.kid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3656160" y="3733920"/>
              <a:ext cx="4284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4424040" y="1066680"/>
            <a:ext cx="257760" cy="460440"/>
          </a:xfrm>
          <a:custGeom>
            <a:avLst/>
            <a:gdLst>
              <a:gd name="textAreaLeft" fmla="*/ 360 w 257760"/>
              <a:gd name="textAreaRight" fmla="*/ 257400 w 25776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38561">
                <a:moveTo>
                  <a:pt x="142" y="0"/>
                </a:moveTo>
                <a:arcTo wR="142" hR="142" stAng="16200000" swAng="-5400000"/>
                <a:lnTo>
                  <a:pt x="0" y="38419"/>
                </a:lnTo>
                <a:arcTo wR="142" hR="142" stAng="10800000" swAng="-5400000"/>
                <a:lnTo>
                  <a:pt x="21458" y="38561"/>
                </a:lnTo>
                <a:arcTo wR="142" hR="142" stAng="5400000" swAng="-5400000"/>
                <a:lnTo>
                  <a:pt x="21600" y="142"/>
                </a:lnTo>
                <a:arcTo wR="142" hR="14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 fill="hold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 fill="hold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NS: Process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556920" y="1541160"/>
            <a:ext cx="3848040" cy="493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8000" indent="-378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Host xyz.iitb.ernet.in wants IP address of www.ibm.com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8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8000" indent="-378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ntacts its local DNS server, dns.iitb.ernet.i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8000" indent="-378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ns.iitb.ernet.in contacts root name server, if necessary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8000" indent="-378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oot name server sends the the authoritative name server address to local name server if necessary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8000" indent="-378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cal name server asks the authoritative name server dns.ibm.com for the IP address of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www.ibm.com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and gets it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8000" indent="-378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cal name server sends the IP address to the host xyz.itb.ernet.i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8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4" name=""/>
          <p:cNvSpPr/>
          <p:nvPr/>
        </p:nvSpPr>
        <p:spPr>
          <a:xfrm>
            <a:off x="4195800" y="4648320"/>
            <a:ext cx="2253960" cy="33048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yz.iitb.ernet.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708600" y="4844880"/>
            <a:ext cx="1522440" cy="33048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ww.ib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5265720" y="2570040"/>
            <a:ext cx="372960" cy="657360"/>
            <a:chOff x="5265720" y="2570040"/>
            <a:chExt cx="372960" cy="657360"/>
          </a:xfrm>
        </p:grpSpPr>
        <p:sp>
          <p:nvSpPr>
            <p:cNvPr id="1047" name=""/>
            <p:cNvSpPr/>
            <p:nvPr/>
          </p:nvSpPr>
          <p:spPr>
            <a:xfrm>
              <a:off x="5265720" y="3075120"/>
              <a:ext cx="370080" cy="152280"/>
            </a:xfrm>
            <a:custGeom>
              <a:avLst/>
              <a:gdLst/>
              <a:ahLst/>
              <a:rect l="l" t="t" r="r" b="b"/>
              <a:pathLst>
                <a:path w="1029" h="424">
                  <a:moveTo>
                    <a:pt x="397" y="0"/>
                  </a:moveTo>
                  <a:lnTo>
                    <a:pt x="1028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7" y="0"/>
                  </a:lnTo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452920" y="2575080"/>
              <a:ext cx="169920" cy="504720"/>
            </a:xfrm>
            <a:custGeom>
              <a:avLst/>
              <a:gdLst>
                <a:gd name="textAreaLeft" fmla="*/ 360 w 169920"/>
                <a:gd name="textAreaRight" fmla="*/ 169560 w 16992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64069">
                  <a:moveTo>
                    <a:pt x="203" y="0"/>
                  </a:moveTo>
                  <a:arcTo wR="203" hR="203" stAng="16200000" swAng="-5400000"/>
                  <a:lnTo>
                    <a:pt x="0" y="63866"/>
                  </a:lnTo>
                  <a:arcTo wR="203" hR="203" stAng="10800000" swAng="-5400000"/>
                  <a:lnTo>
                    <a:pt x="21397" y="64069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267160" y="2717640"/>
              <a:ext cx="235080" cy="505080"/>
            </a:xfrm>
            <a:custGeom>
              <a:avLst/>
              <a:gdLst>
                <a:gd name="textAreaLeft" fmla="*/ 360 w 235080"/>
                <a:gd name="textAreaRight" fmla="*/ 234720 w 235080"/>
                <a:gd name="textAreaTop" fmla="*/ 360 h 505080"/>
                <a:gd name="textAreaBottom" fmla="*/ 504720 h 505080"/>
              </a:gdLst>
              <a:ahLst/>
              <a:rect l="textAreaLeft" t="textAreaTop" r="textAreaRight" b="textAreaBottom"/>
              <a:pathLst>
                <a:path w="21600" h="46371">
                  <a:moveTo>
                    <a:pt x="145" y="0"/>
                  </a:moveTo>
                  <a:arcTo wR="145" hR="145" stAng="16200000" swAng="-5400000"/>
                  <a:lnTo>
                    <a:pt x="0" y="46226"/>
                  </a:lnTo>
                  <a:arcTo wR="145" hR="145" stAng="10800000" swAng="-5400000"/>
                  <a:lnTo>
                    <a:pt x="21455" y="463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265720" y="2570040"/>
              <a:ext cx="370080" cy="152640"/>
            </a:xfrm>
            <a:custGeom>
              <a:avLst/>
              <a:gdLst/>
              <a:ahLst/>
              <a:rect l="l" t="t" r="r" b="b"/>
              <a:pathLst>
                <a:path w="1029" h="424">
                  <a:moveTo>
                    <a:pt x="397" y="0"/>
                  </a:moveTo>
                  <a:lnTo>
                    <a:pt x="1028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7" y="0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35800" y="2581200"/>
              <a:ext cx="1440" cy="49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5499000" y="3075120"/>
              <a:ext cx="13968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297400" y="2784600"/>
              <a:ext cx="155520" cy="291960"/>
            </a:xfrm>
            <a:custGeom>
              <a:avLst/>
              <a:gdLst>
                <a:gd name="textAreaLeft" fmla="*/ 360 w 155520"/>
                <a:gd name="textAreaRight" fmla="*/ 155160 w 155520"/>
                <a:gd name="textAreaTop" fmla="*/ 360 h 291960"/>
                <a:gd name="textAreaBottom" fmla="*/ 291600 h 291960"/>
              </a:gdLst>
              <a:ahLst/>
              <a:rect l="textAreaLeft" t="textAreaTop" r="textAreaRight" b="textAreaBottom"/>
              <a:pathLst>
                <a:path w="21600" h="40506">
                  <a:moveTo>
                    <a:pt x="220" y="0"/>
                  </a:moveTo>
                  <a:arcTo wR="220" hR="220" stAng="16200000" swAng="-5400000"/>
                  <a:lnTo>
                    <a:pt x="0" y="40286"/>
                  </a:lnTo>
                  <a:arcTo wR="220" hR="220" stAng="10800000" swAng="-5400000"/>
                  <a:lnTo>
                    <a:pt x="21380" y="40506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19720" y="2871720"/>
              <a:ext cx="119160" cy="10332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5791320" y="736560"/>
            <a:ext cx="201132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oot 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517080" y="3408480"/>
            <a:ext cx="2653200" cy="57384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uthoritative 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ns.ib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5315040" y="3254040"/>
            <a:ext cx="1440" cy="1320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429160" y="1558440"/>
            <a:ext cx="914400" cy="978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34160" y="1743120"/>
            <a:ext cx="5619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6816240" y="1568520"/>
            <a:ext cx="654120" cy="939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5616360" y="1771560"/>
            <a:ext cx="73980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505480" y="328608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4316400" y="3384720"/>
            <a:ext cx="2253960" cy="604080"/>
            <a:chOff x="4316400" y="3384720"/>
            <a:chExt cx="2253960" cy="604080"/>
          </a:xfrm>
        </p:grpSpPr>
        <p:sp>
          <p:nvSpPr>
            <p:cNvPr id="1064" name=""/>
            <p:cNvSpPr/>
            <p:nvPr/>
          </p:nvSpPr>
          <p:spPr>
            <a:xfrm>
              <a:off x="4505400" y="3457440"/>
              <a:ext cx="1876320" cy="476280"/>
            </a:xfrm>
            <a:prstGeom prst="roundRect">
              <a:avLst>
                <a:gd name="adj" fmla="val 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316400" y="3384720"/>
              <a:ext cx="2253960" cy="60408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local name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dns.iitb.ernet.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5027760" y="41133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570640" y="1779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713640" y="20271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094520" y="1779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942160" y="2103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560920" y="41511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6380280" y="1150920"/>
            <a:ext cx="372960" cy="657360"/>
            <a:chOff x="6380280" y="1150920"/>
            <a:chExt cx="372960" cy="657360"/>
          </a:xfrm>
        </p:grpSpPr>
        <p:sp>
          <p:nvSpPr>
            <p:cNvPr id="1073" name=""/>
            <p:cNvSpPr/>
            <p:nvPr/>
          </p:nvSpPr>
          <p:spPr>
            <a:xfrm>
              <a:off x="6380280" y="1655640"/>
              <a:ext cx="369720" cy="15264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567480" y="1155600"/>
              <a:ext cx="169920" cy="505080"/>
            </a:xfrm>
            <a:custGeom>
              <a:avLst/>
              <a:gdLst>
                <a:gd name="textAreaLeft" fmla="*/ 360 w 169920"/>
                <a:gd name="textAreaRight" fmla="*/ 169560 w 169920"/>
                <a:gd name="textAreaTop" fmla="*/ 360 h 505080"/>
                <a:gd name="textAreaBottom" fmla="*/ 504720 h 505080"/>
              </a:gdLst>
              <a:ahLst/>
              <a:rect l="textAreaLeft" t="textAreaTop" r="textAreaRight" b="textAreaBottom"/>
              <a:pathLst>
                <a:path w="21600" h="64115">
                  <a:moveTo>
                    <a:pt x="203" y="0"/>
                  </a:moveTo>
                  <a:arcTo wR="203" hR="203" stAng="16200000" swAng="-5400000"/>
                  <a:lnTo>
                    <a:pt x="0" y="63912"/>
                  </a:lnTo>
                  <a:arcTo wR="203" hR="203" stAng="10800000" swAng="-5400000"/>
                  <a:lnTo>
                    <a:pt x="21397" y="64115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381720" y="1298520"/>
              <a:ext cx="235080" cy="504720"/>
            </a:xfrm>
            <a:custGeom>
              <a:avLst/>
              <a:gdLst>
                <a:gd name="textAreaLeft" fmla="*/ 360 w 235080"/>
                <a:gd name="textAreaRight" fmla="*/ 234720 w 23508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46338">
                  <a:moveTo>
                    <a:pt x="145" y="0"/>
                  </a:moveTo>
                  <a:arcTo wR="145" hR="145" stAng="16200000" swAng="-5400000"/>
                  <a:lnTo>
                    <a:pt x="0" y="46193"/>
                  </a:lnTo>
                  <a:arcTo wR="145" hR="145" stAng="10800000" swAng="-5400000"/>
                  <a:lnTo>
                    <a:pt x="21455" y="46338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80280" y="1150920"/>
              <a:ext cx="369720" cy="15228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750000" y="1162080"/>
              <a:ext cx="180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6613560" y="1655640"/>
              <a:ext cx="13968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411960" y="1365120"/>
              <a:ext cx="155520" cy="292320"/>
            </a:xfrm>
            <a:custGeom>
              <a:avLst/>
              <a:gdLst>
                <a:gd name="textAreaLeft" fmla="*/ 360 w 155520"/>
                <a:gd name="textAreaRight" fmla="*/ 155160 w 155520"/>
                <a:gd name="textAreaTop" fmla="*/ 360 h 292320"/>
                <a:gd name="textAreaBottom" fmla="*/ 291960 h 292320"/>
              </a:gdLst>
              <a:ahLst/>
              <a:rect l="textAreaLeft" t="textAreaTop" r="textAreaRight" b="textAreaBottom"/>
              <a:pathLst>
                <a:path w="21600" h="40556">
                  <a:moveTo>
                    <a:pt x="220" y="0"/>
                  </a:moveTo>
                  <a:arcTo wR="220" hR="220" stAng="16200000" swAng="-5400000"/>
                  <a:lnTo>
                    <a:pt x="0" y="40336"/>
                  </a:lnTo>
                  <a:arcTo wR="220" hR="220" stAng="10800000" swAng="-5400000"/>
                  <a:lnTo>
                    <a:pt x="21380" y="40556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434280" y="1452600"/>
              <a:ext cx="118800" cy="10332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7209000" y="2579760"/>
            <a:ext cx="372960" cy="657000"/>
            <a:chOff x="7209000" y="2579760"/>
            <a:chExt cx="372960" cy="657000"/>
          </a:xfrm>
        </p:grpSpPr>
        <p:sp>
          <p:nvSpPr>
            <p:cNvPr id="1082" name=""/>
            <p:cNvSpPr/>
            <p:nvPr/>
          </p:nvSpPr>
          <p:spPr>
            <a:xfrm>
              <a:off x="7209000" y="3084480"/>
              <a:ext cx="369720" cy="15228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396200" y="2584440"/>
              <a:ext cx="169920" cy="504720"/>
            </a:xfrm>
            <a:custGeom>
              <a:avLst/>
              <a:gdLst>
                <a:gd name="textAreaLeft" fmla="*/ 360 w 169920"/>
                <a:gd name="textAreaRight" fmla="*/ 169560 w 16992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64069">
                  <a:moveTo>
                    <a:pt x="203" y="0"/>
                  </a:moveTo>
                  <a:arcTo wR="203" hR="203" stAng="16200000" swAng="-5400000"/>
                  <a:lnTo>
                    <a:pt x="0" y="63866"/>
                  </a:lnTo>
                  <a:arcTo wR="203" hR="203" stAng="10800000" swAng="-5400000"/>
                  <a:lnTo>
                    <a:pt x="21397" y="64069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210440" y="2727360"/>
              <a:ext cx="235080" cy="504720"/>
            </a:xfrm>
            <a:custGeom>
              <a:avLst/>
              <a:gdLst>
                <a:gd name="textAreaLeft" fmla="*/ 360 w 235080"/>
                <a:gd name="textAreaRight" fmla="*/ 234720 w 23508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46338">
                  <a:moveTo>
                    <a:pt x="145" y="0"/>
                  </a:moveTo>
                  <a:arcTo wR="145" hR="145" stAng="16200000" swAng="-5400000"/>
                  <a:lnTo>
                    <a:pt x="0" y="46193"/>
                  </a:lnTo>
                  <a:arcTo wR="145" hR="145" stAng="10800000" swAng="-5400000"/>
                  <a:lnTo>
                    <a:pt x="21455" y="46338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209000" y="2579760"/>
              <a:ext cx="369720" cy="15228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578720" y="2590920"/>
              <a:ext cx="144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7442280" y="3084480"/>
              <a:ext cx="13968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240680" y="2793960"/>
              <a:ext cx="155520" cy="290520"/>
            </a:xfrm>
            <a:custGeom>
              <a:avLst/>
              <a:gdLst>
                <a:gd name="textAreaLeft" fmla="*/ 360 w 155520"/>
                <a:gd name="textAreaRight" fmla="*/ 155160 w 155520"/>
                <a:gd name="textAreaTop" fmla="*/ 360 h 290520"/>
                <a:gd name="textAreaBottom" fmla="*/ 290160 h 290520"/>
              </a:gdLst>
              <a:ahLst/>
              <a:rect l="textAreaLeft" t="textAreaTop" r="textAreaRight" b="textAreaBottom"/>
              <a:pathLst>
                <a:path w="21600" h="40307">
                  <a:moveTo>
                    <a:pt x="220" y="0"/>
                  </a:moveTo>
                  <a:arcTo wR="220" hR="220" stAng="16200000" swAng="-5400000"/>
                  <a:lnTo>
                    <a:pt x="0" y="40087"/>
                  </a:lnTo>
                  <a:arcTo wR="220" hR="220" stAng="10800000" swAng="-5400000"/>
                  <a:lnTo>
                    <a:pt x="21380" y="40307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262640" y="2881440"/>
              <a:ext cx="119160" cy="10296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7391520" y="4038480"/>
            <a:ext cx="9360" cy="790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 näitel (klient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b välja faile serverarvutist ja veidi lisainfi (HTTP päi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asub TCP pordil 8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% telnet deepthought.ttu.ee 8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sitakse nimeserverilt “deepthought.ttu.ee” IP aadres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meserver teeb DNS protokolliga rekursiivse otsing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b tulemuse 193.40.254.179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loob TCP ühend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erveeritakse kohalik TCP por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etakse serverile TCP ühenduse avamise kuts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näitel (võrk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lnet saadab päringu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TCP paketti sisaldav IP datagram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.40.254.179 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rsruutimistabelist selgub, et tuleb kasutada vaikimisi marsruutimisreeglit (Näiteks: 192.168.0.1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RP abil tehakse kindlaks selle Etherneti aadres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üldlevi aadressil küsimus 192.168.0.1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akse vastus 00:E0:1E:67:F4:3F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Etherneti kaader aadressil 00:E0:1E:67:F4:3F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odatakse kuni Etherneti võrk on vab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kaader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2.168.0.1-s ja teistes marsruuterites korratakse marsruutimisprotseduur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näitel (server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epthoughti IP kiht annab datagrammi andmeosa edasi TCP kih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epthoughti TCP kiht annab pordi numbri järgi andmeosa edasi http serveri-programm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 server-programm  töötleb päringut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 server-programm saadab vastuse ja lõpetab TCP ühendus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rdub protseduur läbi TCP, IP ja Etherne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IOS perekon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1099" name=""/>
          <p:cNvGraphicFramePr/>
          <p:nvPr/>
        </p:nvGraphicFramePr>
        <p:xfrm>
          <a:off x="2590920" y="1447920"/>
          <a:ext cx="397008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447920"/>
                    <a:ext cx="397008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funktsioneerimine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 sama, mis eelmisel slaidi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simused, mis tahavad vastu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arvuti Y on traadiga ühenduses mitme eri arvutiga (X, Z, U, ...) siis kuidas saata nimelt soovitud arvutisse (meie näites X) oma info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info hulk on väga suur (näiteks 700 MB), kas saaks seda üksikute väiksemate tükkidena saat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kontrollida, kas tükid jõudsid päral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teha, kui mõni tükk kaduma läheb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arvuti X tükid õieti kokku oskab pann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117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EU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IOS Extended User Interf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sendab kohtvõrgu liikluses TCP+I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Optimiseeritud väikeste kohtvõrkude jao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Kiir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Hea veakindl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Pole marsruuditav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Palju liiklust üldaadress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IO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IOS (Network Basic Input/Output System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imaldab seansi ja datagrammi tüüpi ühend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kub nimeteen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sina nimi kuni 15 tähte, hierarhiat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etodid nime teisendamiseks IP aadressiks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üsib WINS serverilt (nimede ja IP aadrsside andmebaas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üsimine üldlevi aadressi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MHOSTS ja HOSTS fai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NS päring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ethern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122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438280" y="2971800"/>
            <a:ext cx="300240" cy="304920"/>
            <a:chOff x="2438280" y="2971800"/>
            <a:chExt cx="300240" cy="304920"/>
          </a:xfrm>
        </p:grpSpPr>
        <p:sp>
          <p:nvSpPr>
            <p:cNvPr id="125" name=""/>
            <p:cNvSpPr/>
            <p:nvPr/>
          </p:nvSpPr>
          <p:spPr>
            <a:xfrm>
              <a:off x="2438280" y="29718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29718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4000" y="29718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438280" y="1905120"/>
            <a:ext cx="300240" cy="304560"/>
            <a:chOff x="2438280" y="1905120"/>
            <a:chExt cx="300240" cy="304560"/>
          </a:xfrm>
        </p:grpSpPr>
        <p:sp>
          <p:nvSpPr>
            <p:cNvPr id="129" name=""/>
            <p:cNvSpPr/>
            <p:nvPr/>
          </p:nvSpPr>
          <p:spPr>
            <a:xfrm>
              <a:off x="2438280" y="1905120"/>
              <a:ext cx="300240" cy="30456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38280" y="190512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64000" y="19051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038480" y="2362320"/>
            <a:ext cx="300240" cy="304560"/>
            <a:chOff x="4038480" y="2362320"/>
            <a:chExt cx="300240" cy="304560"/>
          </a:xfrm>
        </p:grpSpPr>
        <p:sp>
          <p:nvSpPr>
            <p:cNvPr id="133" name=""/>
            <p:cNvSpPr/>
            <p:nvPr/>
          </p:nvSpPr>
          <p:spPr>
            <a:xfrm>
              <a:off x="4038480" y="2362320"/>
              <a:ext cx="300240" cy="30456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66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38480" y="236232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6f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64200" y="2362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db57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715000" y="2895480"/>
            <a:ext cx="299880" cy="304920"/>
            <a:chOff x="5715000" y="2895480"/>
            <a:chExt cx="299880" cy="304920"/>
          </a:xfrm>
        </p:grpSpPr>
        <p:sp>
          <p:nvSpPr>
            <p:cNvPr id="137" name=""/>
            <p:cNvSpPr/>
            <p:nvPr/>
          </p:nvSpPr>
          <p:spPr>
            <a:xfrm>
              <a:off x="5715000" y="2895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15000" y="2895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40360" y="2895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962520" y="1295280"/>
            <a:ext cx="299880" cy="304920"/>
            <a:chOff x="3962520" y="1295280"/>
            <a:chExt cx="299880" cy="304920"/>
          </a:xfrm>
        </p:grpSpPr>
        <p:sp>
          <p:nvSpPr>
            <p:cNvPr id="141" name=""/>
            <p:cNvSpPr/>
            <p:nvPr/>
          </p:nvSpPr>
          <p:spPr>
            <a:xfrm>
              <a:off x="3962520" y="1295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62520" y="1295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87880" y="1295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038480" y="3505320"/>
            <a:ext cx="300240" cy="304560"/>
            <a:chOff x="4038480" y="3505320"/>
            <a:chExt cx="300240" cy="304560"/>
          </a:xfrm>
        </p:grpSpPr>
        <p:sp>
          <p:nvSpPr>
            <p:cNvPr id="145" name=""/>
            <p:cNvSpPr/>
            <p:nvPr/>
          </p:nvSpPr>
          <p:spPr>
            <a:xfrm>
              <a:off x="4038480" y="3505320"/>
              <a:ext cx="300240" cy="30456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38480" y="350532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420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149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V="1">
            <a:off x="2743200" y="2511000"/>
            <a:ext cx="1295280" cy="53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172200" y="1521000"/>
            <a:ext cx="1143000" cy="2347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1523880"/>
            <a:ext cx="186228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th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C aad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8 bitine a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343400" y="1901520"/>
            <a:ext cx="1523880" cy="46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191120" y="2663640"/>
            <a:ext cx="1440" cy="84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339800" y="2511000"/>
            <a:ext cx="1454040" cy="53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2739960" y="2054160"/>
            <a:ext cx="130176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91120" y="1596960"/>
            <a:ext cx="1440" cy="76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2666880"/>
            <a:ext cx="1676520" cy="19051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4572000"/>
            <a:ext cx="186192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B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lihts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id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rupes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, ühendab kõik kok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429000"/>
            <a:ext cx="320040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arvuti Y saadab arvutile X teksti, siis ta saadab s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ipid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ÕIGI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rgus, aga teksti juures on öeldud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INUL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 (MAC aadress!) peab seda kuulama.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sed ignoreeriv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85560" y="25560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51200" y="12952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4960" y="4772160"/>
            <a:ext cx="272664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B! Korraga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raadil ainult ü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ad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intern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169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172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176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180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184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188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192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196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200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204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172200" y="1521000"/>
            <a:ext cx="1143000" cy="2347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1523880"/>
            <a:ext cx="2057400" cy="57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ine a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ti on 4 baiti. IP aa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takse enamasti “inimloetavalt” nii (näid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.40.254.1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124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295280"/>
            <a:ext cx="2209680" cy="67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ksti külje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ati IP aadres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võrgus ol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suunab saadud teksti õiges suunas. Kuida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n “routing tabl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, vaa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 arvutis on n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router”-program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s kuulab traati ja saadab saadud tekstid õiges suunas eda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657600" y="3425400"/>
            <a:ext cx="914400" cy="82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800600" y="2892240"/>
            <a:ext cx="304920" cy="3870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334120" y="1978200"/>
            <a:ext cx="457200" cy="3110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438280" y="5562720"/>
            <a:ext cx="4648320" cy="679320"/>
            <a:chOff x="2438280" y="5562720"/>
            <a:chExt cx="4648320" cy="679320"/>
          </a:xfrm>
        </p:grpSpPr>
        <p:sp>
          <p:nvSpPr>
            <p:cNvPr id="233" name=""/>
            <p:cNvSpPr/>
            <p:nvPr/>
          </p:nvSpPr>
          <p:spPr>
            <a:xfrm>
              <a:off x="2438280" y="5562720"/>
              <a:ext cx="4648320" cy="679320"/>
            </a:xfrm>
            <a:prstGeom prst="roundRect">
              <a:avLst>
                <a:gd name="adj" fmla="val 231"/>
              </a:avLst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38280" y="5562720"/>
              <a:ext cx="464832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Osa arvuteid võrgus on “lihtsalt” harilikud arvutid, osa spetsiaalsed “võrgu-ruuterid”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i (IP) kasutamise põhi-ide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6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adress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ga saadetava tekstijupiga pannakse kaasa selle masina aadress, kuhu tekst saata tuleb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on analoogiline hariliku ümbrikug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 on ümbriku sees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mbriku peal on saaja aadress (ja tagaküljel ka saatja aadres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 baiti IP aadressis on nagu aadressi-read: maja, tänav, linn, rii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-arvutid on nagu postkontorid ja sorteerimispunk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did on nagu veomasinad, mis posti kontorite vahel veava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ket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harilikku ümbrikku aga ei mahu terve entsoklüpeedia kümme köidet! Mida teha? Paneme eraldi köited eri ümbrikutesse ja saadame kümme ümbrikk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i ka internet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kad tekstid lõhutakse väiksemateks juppideks (nn pakettideks)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ketid saadetakse eraldi, igalühel aadress peal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Bitstream Vera San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3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243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246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250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254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258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262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266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270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274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278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1124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tahab saata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M kasu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657600" y="3425400"/>
            <a:ext cx="914400" cy="82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312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315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319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323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327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331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335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339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343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347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1124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4920" y="1219320"/>
            <a:ext cx="220968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 peab saatma 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E kasu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105520" y="3044880"/>
            <a:ext cx="304560" cy="387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cp:revision>0</cp:revision>
  <dc:subject/>
  <dc:title> </dc:title>
</cp:coreProperties>
</file>